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7B3-480F-4692-B7A9-21636D28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4EF-E57A-402A-8D64-F45C6ED5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143-32CA-44C0-B12C-86DD0339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755-73E9-435B-8E03-A17BED70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B4E-AF92-4A26-A6C8-3C2692DA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896-DD6B-4551-9484-E9A78F85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143-8E91-4DA6-90CF-F806189A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6DA-56AF-4669-A0A7-3DDF0741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358-8845-4892-84F0-E6AB1309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DB0-8667-4898-A0DB-B2E677A2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E64-9F28-466A-8481-69C353F9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9EB-A94E-40C0-B27F-00C39AE6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DF6EB-8620-46D9-BA2D-18E5007925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competing interests emerged in the U.S. during the “Era of Good Feelings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9920" y="-1191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6012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trong feeling of devotion or loyalty to one nation over others:  Patrio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dea that people living in a politically-defined area and sharing certain cultural characteristics share a common interest:  the Nation (different concept than the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idea drives people to act in the interes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ir perceived nation, and sometimes to think less of those belonging to other sub-national cult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also drives people of a common ethnic grou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eek self-rule in their own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rn only for the interests of one part of a country (typically one's own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ten used to describe the divided regional loyalties of the North and the South, but can be used in other instances as w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181296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use each term in a sentence?  (It does not have to be history relat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of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5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to the Embargo of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9920" y="220680"/>
            <a:ext cx="9070920" cy="7516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ning during the Era of Good Feelings,” the country would see the divergent forces of nationalism and sectionalism emerg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force would win out (by 1860 at least)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each of the following events increase either nationalist or sectionalist feelings (or both)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3428640"/>
            <a:ext cx="937260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Clay's “American Syste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nal Improvements (like the National Road, Erie Canal, railroad developmen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ams-Onis Trea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7000"/>
          </a:bodyPr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velopment of textile mills in Massachusetts (by the Boston Manufacturing Company, first in Waltham, then in Lowe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nic of 18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spread use of Eli Whitney's 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30040"/>
            <a:ext cx="90709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pansion of the U.S. Postal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dian Removal Polic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3:09:47Z</dcterms:created>
  <dc:creator/>
  <dc:description/>
  <dc:language>en-US</dc:language>
  <cp:lastModifiedBy/>
  <cp:revision>1</cp:revision>
  <dc:subject/>
  <dc:title/>
</cp:coreProperties>
</file>